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CF2-2411-4DA4-807D-89B1CC08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792B-F410-4C59-975B-945E9012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425-C724-47C1-A846-5BF4C5FF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5F6-6AA2-4196-A026-ADFCC0A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C71-FB8F-4B21-AFA2-FF947DEF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F2E-5D92-465B-BC0B-770785B4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18D-C3E2-4546-A49C-D713B89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2E4-26D8-4C90-95C6-866F69F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279-D5D2-4B7F-A33E-04B62DC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AC7-7261-495C-BC36-0C508C5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D88-8BB5-49AC-A1E9-2ABC723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E5B-58C3-4C61-A4C6-E392DCB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B25-C4F2-4D99-A57E-D235AA8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BDB-F46B-4F0D-8D4B-789191F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7E4-617F-4C74-8116-FB7E3463A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nity Rain</cp:lastModifiedBy>
  <dcterms:modified xsi:type="dcterms:W3CDTF">2011-04-24T23:12:41Z</dcterms:modified>
  <cp:revision>84</cp:revision>
  <dc:subject/>
  <dc:title>CRS Chapter 4</dc:title>
</cp:coreProperties>
</file>